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447A-C313-41EF-99A9-4C2439EDD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FDF1-9BB4-4DBA-9D1A-FAA7D4937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2D8-2BEE-4838-B6F1-3DAFFF69A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0CCC-37A9-4DED-945C-438377C4A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ADD0-46B4-4D79-900E-5B690C0CC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D6BC-A419-4A0C-BBE1-01D5BFDE3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5FDA-D771-40B8-8090-F0F111DA1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D2CD-BAC4-4271-A53B-1A04914DA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FE96-C6A4-4141-9D6C-9BC12566A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4CA3-4652-4AC5-B07C-474746E8E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2E85-6BCB-4898-9D40-C5E3E666E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395F-54DF-4A64-91DD-B0BC242DB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385B-FFF1-49CE-AA25-B4186BD79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97CD-B94C-4BB9-9B65-B1053B3AE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B904-52E5-497B-9998-2FBB7DD91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49CE-ACEB-437C-9DAB-94181C00E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2231-44A7-4E1F-9D69-134790D15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05A2-5C3C-47EE-9F02-5CA933FA5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A8D8-57E0-46D7-9320-197271F17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E0C2-0FF5-4D5F-8282-1F0FEE1CB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F6221-50DA-4184-BA39-4A3544B0F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A96F7-FEEF-4769-9C56-C13F51FC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46084-E05A-48CB-8F2C-53BE15090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C976C-DB75-45FD-9B67-5E6818752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26EFE-426E-4642-881E-D345FA9B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3BC8-E945-443E-9776-24D69473B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1F5D-8FAC-4FC1-AA37-B1301032C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B2F9-372F-44E7-A00F-CC8E703C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DCFA6-8CD4-4F01-9ED2-019D5A3F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E997-3608-405C-8DDB-E6509D3C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D3AFB-0CDA-4451-98E6-935B1505F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CE99-3359-4E17-954D-31B468334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C83D-7AE0-497D-BCA9-2F750F3D5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install</cp:lastModifiedBy>
  <dcterms:modified xsi:type="dcterms:W3CDTF">2009-07-03T22:58:56Z</dcterms:modified>
  <cp:revision>119</cp:revision>
  <dc:subject/>
  <dc:title>Wikispaces for Teachers A guide to using them in your classroom</dc:title>
</cp:coreProperties>
</file>